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ur work this week we have found that the following concepts help to develop proportional reasoning: fractions (doubling and halving), ratio, repeating and growing patterns, area measurement (arrays), multiplicative thin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86D26-96E9-4CC0-83D2-81FB2035BD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E0085-F261-4D11-9BD9-608DF224AC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CC5D6B-7AF9-456E-B3B1-7B9973D40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3CF812-B5CC-4175-B9D2-93784CBF64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5749C-F20E-4F6C-9CD8-73360E88A0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A794-6E38-4C5F-B4B0-2252F243C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E597B-D280-427E-A33D-7552C8AD66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789ADB0C-BE2C-4D6B-9115-94AE99B74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08E9DFA-94A0-41EC-9A3E-DAA3CA964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1D7C5-1050-4797-A3C8-CB67299F7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F8727D-72D9-4760-8738-B8F5A8F9A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1DA39-04D6-47D5-9906-0ED151875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2181-41CF-4BC6-BD19-AC157D34AC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B520-FC77-423A-909A-3EC125D1113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5</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s</a:t>
            </a:r>
            <a:endParaRPr b="0" lang="en-US" sz="4400" spc="-1" strike="noStrike">
              <a:solidFill>
                <a:srgbClr val="2b5ca9"/>
              </a:solidFill>
              <a:latin typeface="Arial"/>
            </a:endParaRPr>
          </a:p>
        </p:txBody>
      </p:sp>
      <p:sp>
        <p:nvSpPr>
          <p:cNvPr id="89" name="PlaceHolder 2"/>
          <p:cNvSpPr>
            <a:spLocks noGrp="1"/>
          </p:cNvSpPr>
          <p:nvPr>
            <p:ph/>
          </p:nvPr>
        </p:nvSpPr>
        <p:spPr>
          <a:xfrm>
            <a:off x="380880" y="1523880"/>
            <a:ext cx="8229600" cy="32767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group members, add to your</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cept maps for proportional reasoning.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nds or concepts are connected to</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 for primary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2980-88C8-420D-9360-A325FE8B23C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D76D-9E13-4F5D-A29C-BEA05D64DB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1D6F-3E72-4024-B765-373307CB40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1600200" y="1447920"/>
          <a:ext cx="6095880" cy="411444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1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56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oment to think of 3 strategies you have found helpful for students who struggle with proportional reasoning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ideas in your ‘Give One’ column.  These will be the ideas you share with other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3017-09DE-4107-9A65-16D1808EEF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640B-3FF0-43F3-80C4-43A3521E1B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7DCE-6763-4B48-98CA-CC9CFA9AABC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1" descr=""/>
          <p:cNvPicPr/>
          <p:nvPr/>
        </p:nvPicPr>
        <p:blipFill>
          <a:blip r:embed="rId1"/>
          <a:stretch/>
        </p:blipFill>
        <p:spPr>
          <a:xfrm>
            <a:off x="0" y="5356080"/>
            <a:ext cx="9144000" cy="1517760"/>
          </a:xfrm>
          <a:prstGeom prst="rect">
            <a:avLst/>
          </a:prstGeom>
          <a:ln w="0">
            <a:noFill/>
          </a:ln>
        </p:spPr>
      </p:pic>
      <p:sp>
        <p:nvSpPr>
          <p:cNvPr id="6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D90F-FD84-452B-81E4-7906A16C16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CA58-3037-499C-9352-DEFBD45111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1" descr=""/>
          <p:cNvPicPr/>
          <p:nvPr/>
        </p:nvPicPr>
        <p:blipFill>
          <a:blip r:embed="rId1"/>
          <a:stretch/>
        </p:blipFill>
        <p:spPr>
          <a:xfrm>
            <a:off x="0" y="5356080"/>
            <a:ext cx="9144000" cy="1517760"/>
          </a:xfrm>
          <a:prstGeom prst="rect">
            <a:avLst/>
          </a:prstGeom>
          <a:ln w="0">
            <a:noFill/>
          </a:ln>
        </p:spPr>
      </p:pic>
      <p:sp>
        <p:nvSpPr>
          <p:cNvPr id="6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069F-926D-488E-99D5-5551DEFC14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90B9-F57E-471E-B50B-3CADD418FD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89DA-2609-4772-9313-27F31988A17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803C-495C-4259-8184-0240476139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CAA4-AA6D-4121-AE81-3D2124A42C6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CBF4-F293-4703-BA9C-73029ECB316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EA94B-C93B-4FB2-8E9B-FE9BB4948A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oup Share</a:t>
            </a:r>
            <a:endParaRPr b="0" lang="en-US" sz="4400" spc="-1" strike="noStrike">
              <a:solidFill>
                <a:srgbClr val="2b5ca9"/>
              </a:solidFill>
              <a:latin typeface="Arial"/>
            </a:endParaRPr>
          </a:p>
        </p:txBody>
      </p:sp>
      <p:sp>
        <p:nvSpPr>
          <p:cNvPr id="84" name="PlaceHolder 2"/>
          <p:cNvSpPr>
            <a:spLocks noGrp="1"/>
          </p:cNvSpPr>
          <p:nvPr>
            <p:ph/>
          </p:nvPr>
        </p:nvSpPr>
        <p:spPr>
          <a:xfrm>
            <a:off x="380880" y="1981080"/>
            <a:ext cx="8229600" cy="243864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seful strategy I discovered today</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a:t>
            </a:r>
            <a:endParaRPr b="0" lang="en-US" sz="3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9CE3-E385-490C-83F5-1A95598B55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E603-84A8-41F0-B2FD-60919F94E3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User</cp:lastModifiedBy>
  <dcterms:modified xsi:type="dcterms:W3CDTF">2011-08-14T16:29:55Z</dcterms:modified>
  <cp:revision>25</cp:revision>
  <dc:subject/>
  <dc:title>&lt;Title&gt;</dc:title>
</cp:coreProperties>
</file>